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93776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r>
              <a:rPr b="0" lang="en-US" sz="2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81A9-6AEA-4C64-BE74-28408EEF4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B9BC-EE6A-4DB0-8859-61BC25C05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5BF-E002-4B06-AC59-CE14F016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03680" y="2925720"/>
            <a:ext cx="4197024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03680" y="9509040"/>
            <a:ext cx="4197024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03680" y="19825920"/>
            <a:ext cx="4197024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5BD-22EB-4D04-ABA7-04627A05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03680" y="2925720"/>
            <a:ext cx="4197024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03680" y="9509040"/>
            <a:ext cx="2048112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09360" y="9509040"/>
            <a:ext cx="2048112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03680" y="19825920"/>
            <a:ext cx="2048112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09360" y="19825920"/>
            <a:ext cx="2048112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98B-E6B3-4F39-B836-3FDD83D4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03680" y="2925720"/>
            <a:ext cx="4197024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03680" y="9509040"/>
            <a:ext cx="1351404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3800" y="9509040"/>
            <a:ext cx="1351404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083920" y="9509040"/>
            <a:ext cx="1351404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03680" y="19825920"/>
            <a:ext cx="1351404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7893800" y="19825920"/>
            <a:ext cx="1351404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2083920" y="19825920"/>
            <a:ext cx="1351404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03A-9907-4E0C-AC3E-45BA32F2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03680" y="2925720"/>
            <a:ext cx="4197024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03680" y="9509040"/>
            <a:ext cx="4197024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124"/>
              </a:spcBef>
              <a:buNone/>
              <a:tabLst>
                <a:tab algn="l" pos="0"/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6A8-F645-4CE0-B073-A70F92B4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03680" y="2925720"/>
            <a:ext cx="4197024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03680" y="9509040"/>
            <a:ext cx="4197024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765-B239-4ED4-9DF0-41C4CB36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03680" y="2925720"/>
            <a:ext cx="4197024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03680" y="9509040"/>
            <a:ext cx="2048112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09360" y="9509040"/>
            <a:ext cx="2048112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255-D74F-4360-A830-296BC1A3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03680" y="2925720"/>
            <a:ext cx="4197024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950-014C-4C5D-889F-2FA19605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03680" y="2925720"/>
            <a:ext cx="419702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124"/>
              </a:spcBef>
              <a:tabLst>
                <a:tab algn="l" pos="0"/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565-7FFA-4610-B0F7-BC05D7E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03680" y="2925720"/>
            <a:ext cx="4197024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03680" y="9509040"/>
            <a:ext cx="2048112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09360" y="9509040"/>
            <a:ext cx="2048112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03680" y="19825920"/>
            <a:ext cx="2048112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3A0-2362-411C-B939-A3674647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03680" y="2925720"/>
            <a:ext cx="4197024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03680" y="9509040"/>
            <a:ext cx="2048112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09360" y="9509040"/>
            <a:ext cx="2048112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09360" y="19825920"/>
            <a:ext cx="2048112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8F0-3A31-4C94-BC9B-B9C02108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03680" y="2925720"/>
            <a:ext cx="4197024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03680" y="9509040"/>
            <a:ext cx="2048112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09360" y="9509040"/>
            <a:ext cx="2048112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03680" y="19825920"/>
            <a:ext cx="41970240" cy="94215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124"/>
              </a:spcBef>
              <a:buNone/>
              <a:tabLst>
                <a:tab algn="l" pos="4702320"/>
                <a:tab algn="l" pos="9404280"/>
              </a:tabLst>
            </a:pP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90F-A98A-4E49-9CA7-709859E9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03680" y="2925720"/>
            <a:ext cx="41970240" cy="54864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2320"/>
                <a:tab algn="l" pos="9404280"/>
              </a:tabLst>
            </a:pPr>
            <a:r>
              <a:rPr b="0" lang="en-US" sz="2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03680" y="9509040"/>
            <a:ext cx="41970240" cy="197517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 fontScale="92000"/>
          </a:bodyPr>
          <a:p>
            <a:pPr marL="1622520" indent="-162252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4702320"/>
                <a:tab algn="l" pos="940428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  <a:p>
            <a:pPr lvl="1" marL="3515040" indent="-1352160">
              <a:spcBef>
                <a:spcPts val="4124"/>
              </a:spcBef>
              <a:buClr>
                <a:srgbClr val="000000"/>
              </a:buClr>
              <a:buFont typeface="Arial"/>
              <a:buChar char="–"/>
              <a:tabLst>
                <a:tab algn="l" pos="4702320"/>
                <a:tab algn="l" pos="940428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  <a:p>
            <a:pPr lvl="2" marL="5407920" indent="-108180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4702320"/>
                <a:tab algn="l" pos="940428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  <a:p>
            <a:pPr lvl="3" marL="7571160" indent="-1082160">
              <a:spcBef>
                <a:spcPts val="4124"/>
              </a:spcBef>
              <a:buClr>
                <a:srgbClr val="000000"/>
              </a:buClr>
              <a:buFont typeface="Arial"/>
              <a:buChar char="–"/>
              <a:tabLst>
                <a:tab algn="l" pos="4702320"/>
                <a:tab algn="l" pos="940428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  <a:p>
            <a:pPr lvl="4" marL="9734040" indent="-1080360">
              <a:spcBef>
                <a:spcPts val="4124"/>
              </a:spcBef>
              <a:buClr>
                <a:srgbClr val="000000"/>
              </a:buClr>
              <a:buFont typeface="Arial"/>
              <a:buChar char="»"/>
              <a:tabLst>
                <a:tab algn="l" pos="4702320"/>
                <a:tab algn="l" pos="940428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  <a:p>
            <a:pPr lvl="5" marL="9734040" indent="-1080360">
              <a:spcBef>
                <a:spcPts val="4124"/>
              </a:spcBef>
              <a:buClr>
                <a:srgbClr val="000000"/>
              </a:buClr>
              <a:buFont typeface="Arial"/>
              <a:buChar char="»"/>
              <a:tabLst>
                <a:tab algn="l" pos="4702320"/>
                <a:tab algn="l" pos="940428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  <a:p>
            <a:pPr lvl="6" marL="9734040" indent="-1080360">
              <a:spcBef>
                <a:spcPts val="4124"/>
              </a:spcBef>
              <a:buClr>
                <a:srgbClr val="000000"/>
              </a:buClr>
              <a:buFont typeface="Arial"/>
              <a:buChar char="»"/>
              <a:tabLst>
                <a:tab algn="l" pos="4702320"/>
                <a:tab algn="l" pos="9404280"/>
              </a:tabLst>
            </a:pPr>
            <a:r>
              <a:rPr b="0" lang="en-US" sz="16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03320" y="29992680"/>
            <a:ext cx="10287000" cy="219384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870320" y="29992680"/>
            <a:ext cx="15636960" cy="219384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5386560" y="29992680"/>
            <a:ext cx="10287000" cy="219384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lstStyle>
            <a:lvl1pPr indent="0" algn="r">
              <a:buNone/>
              <a:tabLst>
                <a:tab algn="l" pos="0"/>
                <a:tab algn="l" pos="4702320"/>
                <a:tab algn="l" pos="9404280"/>
              </a:tabLst>
              <a:defRPr b="0" lang="en-US" sz="7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702320"/>
                <a:tab algn="l" pos="9404280"/>
              </a:tabLst>
            </a:pPr>
            <a:fld id="{D46DB17B-FC1E-4A4D-85EB-E3203799F959}" type="slidenum">
              <a:rPr b="0" lang="en-US" sz="7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75040" y="1295280"/>
            <a:ext cx="16306920" cy="22860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>
              <a:buNone/>
              <a:tabLst>
                <a:tab algn="l" pos="0"/>
                <a:tab algn="l" pos="4702320"/>
                <a:tab algn="l" pos="9404280"/>
              </a:tabLst>
            </a:pPr>
            <a:br>
              <a:rPr sz="8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ok Garn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cho  El Chorro Outdoor Schoo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W. Hendri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 Polytechnic State University, San Luis Obisp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33070680" y="4572000"/>
            <a:ext cx="0" cy="268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16078320" y="4419720"/>
            <a:ext cx="0" cy="269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715000" y="419112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8610480" y="5638680"/>
            <a:ext cx="6705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e to California’s increasingly diverse population, the parks and recreation profession is in need of bilingual and multilingual employ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will result in improved customer service, higher quality management skills, and a reduction of communication barriers (Leslie &amp; Russell, 2006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1066680" y="17754480"/>
            <a:ext cx="1432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5410080" y="224028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685800" y="23622120"/>
            <a:ext cx="1600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survey (zoomerang.com) sent to 1,405 CPRS members in April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questionnaire measur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PGothic"/>
              </a:rPr>
              <a:t>Motivation to learn a foreign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PGothic"/>
              </a:rPr>
              <a:t>Opinions regarding the need for foreign language pro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S PGothic"/>
              </a:rPr>
              <a:t>Frequency of foreign language u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ptive statistics - 4-point Likert scales for motivation and foreign language proficiency need (stongly disagree “1” to strongly agree “4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5 subjects returned a completed question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21869280" y="41911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228600" y="304920"/>
            <a:ext cx="48615480" cy="319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16976880" y="150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8"/>
          <p:cNvSpPr/>
          <p:nvPr/>
        </p:nvSpPr>
        <p:spPr>
          <a:xfrm>
            <a:off x="16916400" y="20564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2"/>
          <p:cNvSpPr/>
          <p:nvPr/>
        </p:nvSpPr>
        <p:spPr>
          <a:xfrm>
            <a:off x="17179920" y="2173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28"/>
          <p:cNvSpPr/>
          <p:nvPr/>
        </p:nvSpPr>
        <p:spPr>
          <a:xfrm>
            <a:off x="38709720" y="1226808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29"/>
          <p:cNvSpPr/>
          <p:nvPr/>
        </p:nvSpPr>
        <p:spPr>
          <a:xfrm>
            <a:off x="33451920" y="12877920"/>
            <a:ext cx="152398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s motivated to learn foreign language for intrinsic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ity of subjects are not using foreign language on a daily b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subjects do not possess foreign language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nish is the most frequently used foreign langua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7% of subjects have been working in the field at least 21 years, Most at supervisor level &amp; above; thus may not have direct contact with program participants or employees speaking English as a second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ry to previous research, the subjects are not motivated to learn a foreign language for a higher salary or for career advanc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42"/>
          <p:cNvSpPr/>
          <p:nvPr/>
        </p:nvSpPr>
        <p:spPr>
          <a:xfrm>
            <a:off x="914400" y="19354680"/>
            <a:ext cx="1470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urpose of this study was to assess the foreign language proficiency motivations and opinions among individuals employed in the parks and recreation profe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44"/>
          <p:cNvSpPr/>
          <p:nvPr/>
        </p:nvSpPr>
        <p:spPr>
          <a:xfrm>
            <a:off x="5410080" y="18288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udy Purp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992720" y="11430000"/>
          <a:ext cx="15849360" cy="11049120"/>
        </p:xfrm>
        <a:graphic>
          <a:graphicData uri="http://schemas.openxmlformats.org/drawingml/2006/table">
            <a:tbl>
              <a:tblPr/>
              <a:tblGrid>
                <a:gridCol w="13507920"/>
                <a:gridCol w="2341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ation to Learn Foreign Language 4-point sca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1" lang="en-US" sz="4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achievem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ciency in non-English langua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e with non-English speak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 about another cultu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travel abroa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ful graduation requirem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e with international cliente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e with employe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er advancem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higher wag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 qualificatio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512"/>
          <p:cNvSpPr/>
          <p:nvPr/>
        </p:nvSpPr>
        <p:spPr>
          <a:xfrm>
            <a:off x="33451920" y="26517600"/>
            <a:ext cx="7162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uct future research by region to determine specific communities in need of foreign language proficiency by employ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 research on employees in direct contact with program particip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990720" y="21717000"/>
            <a:ext cx="143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42"/>
          <p:cNvSpPr/>
          <p:nvPr/>
        </p:nvSpPr>
        <p:spPr>
          <a:xfrm>
            <a:off x="685800" y="14096880"/>
            <a:ext cx="1470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PRS VIP Action Plan supports the need for employees who are bilingual or multilingual by its goals o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ing recreation experiences for individuals, families and communities”  and “Increasing cultural unity” (VIP Project, 199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girls cooking"/>
          <p:cNvPicPr/>
          <p:nvPr/>
        </p:nvPicPr>
        <p:blipFill>
          <a:blip r:embed="rId1"/>
          <a:stretch/>
        </p:blipFill>
        <p:spPr>
          <a:xfrm rot="526800">
            <a:off x="41595480" y="26817480"/>
            <a:ext cx="6051240" cy="4532400"/>
          </a:xfrm>
          <a:prstGeom prst="rect">
            <a:avLst/>
          </a:prstGeom>
          <a:ln w="44280">
            <a:solidFill>
              <a:srgbClr val="000000"/>
            </a:solidFill>
            <a:miter/>
          </a:ln>
        </p:spPr>
      </p:pic>
      <p:pic>
        <p:nvPicPr>
          <p:cNvPr id="70" name="Picture 20" descr="flying_girl"/>
          <p:cNvPicPr/>
          <p:nvPr/>
        </p:nvPicPr>
        <p:blipFill>
          <a:blip r:embed="rId2"/>
          <a:stretch/>
        </p:blipFill>
        <p:spPr>
          <a:xfrm>
            <a:off x="2286000" y="5791320"/>
            <a:ext cx="4699080" cy="7048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Picture 76" descr="PMLB_logo_color_small.png"/>
          <p:cNvPicPr/>
          <p:nvPr/>
        </p:nvPicPr>
        <p:blipFill>
          <a:blip r:embed="rId3"/>
          <a:stretch/>
        </p:blipFill>
        <p:spPr>
          <a:xfrm>
            <a:off x="43434000" y="6400800"/>
            <a:ext cx="4648320" cy="45165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72" name="Picture 77" descr="logo.gif"/>
          <p:cNvPicPr/>
          <p:nvPr/>
        </p:nvPicPr>
        <p:blipFill>
          <a:blip r:embed="rId4"/>
          <a:stretch/>
        </p:blipFill>
        <p:spPr>
          <a:xfrm>
            <a:off x="34088400" y="21744000"/>
            <a:ext cx="4694400" cy="493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16764120" y="23698080"/>
          <a:ext cx="15849360" cy="7683480"/>
        </p:xfrm>
        <a:graphic>
          <a:graphicData uri="http://schemas.openxmlformats.org/drawingml/2006/table">
            <a:tbl>
              <a:tblPr/>
              <a:tblGrid>
                <a:gridCol w="13507920"/>
                <a:gridCol w="2341440"/>
              </a:tblGrid>
              <a:tr h="143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ign Language Proficiency Employees Nee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point sca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1" lang="en-US" sz="4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vocabula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of 5-10 common wor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Spanish skill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conversational skill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ficiency necessa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bilingual skill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multilingual skill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2590920" y="1523880"/>
            <a:ext cx="1851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CPRS Members’ Language Proficienc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2666880" y="2971800"/>
            <a:ext cx="15544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9"/>
          <p:cNvSpPr/>
          <p:nvPr/>
        </p:nvSpPr>
        <p:spPr>
          <a:xfrm>
            <a:off x="40233600" y="20650320"/>
            <a:ext cx="8001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PRS should offer training/webinars that offer basic Spanish speaking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changing demographics in California will be a demand for employees with cultural diversity knowledge and foreign language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6441280" y="5791320"/>
          <a:ext cx="5639040" cy="4892400"/>
        </p:xfrm>
        <a:graphic>
          <a:graphicData uri="http://schemas.openxmlformats.org/drawingml/2006/table">
            <a:tbl>
              <a:tblPr/>
              <a:tblGrid>
                <a:gridCol w="2667240"/>
                <a:gridCol w="2971800"/>
              </a:tblGrid>
              <a:tr h="14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 Employ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1" lang="en-US" sz="4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-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Line 23"/>
          <p:cNvSpPr/>
          <p:nvPr/>
        </p:nvSpPr>
        <p:spPr>
          <a:xfrm>
            <a:off x="33985080" y="11887200"/>
            <a:ext cx="1432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3909120" y="5105520"/>
          <a:ext cx="8534160" cy="5860800"/>
        </p:xfrm>
        <a:graphic>
          <a:graphicData uri="http://schemas.openxmlformats.org/drawingml/2006/table">
            <a:tbl>
              <a:tblPr/>
              <a:tblGrid>
                <a:gridCol w="6324480"/>
                <a:gridCol w="2209680"/>
              </a:tblGrid>
              <a:tr h="152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Interact Non-English Speak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1" lang="en-US" sz="4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times per wee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times pe wee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+ times per wee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4702320"/>
                          <a:tab algn="l" pos="940428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512"/>
          <p:cNvSpPr/>
          <p:nvPr/>
        </p:nvSpPr>
        <p:spPr>
          <a:xfrm>
            <a:off x="17297280" y="6934320"/>
            <a:ext cx="8610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8% fem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2% no foreign language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7% possess Spanish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1% directors, 20% supervisors, 18% managers, 9% coordin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17449920" y="617220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ook Garnica</dc:creator>
  <dc:description/>
  <dc:language>en-US</dc:language>
  <cp:lastModifiedBy>Brook Garnica</cp:lastModifiedBy>
  <dcterms:modified xsi:type="dcterms:W3CDTF">2013-03-18T23:01:04Z</dcterms:modified>
  <cp:revision>30</cp:revision>
  <dc:subject/>
  <dc:title>Why Recreation?:  An Assessment of Students Entering REC Dr. Jerusha Greenwood, Dr. Marni Goldenberg, &amp; Dr. Bill Hendricks California Polytechnic State University, San Luis Obispo</dc:title>
</cp:coreProperties>
</file>