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993-0799-4126-B205-6F95D3F0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D94-6327-4968-9850-ACBE591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BD2-08EF-4D45-9D8D-8AF14795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560-9BB9-4302-A7C9-CF6FB838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B34-5539-4DF9-8B00-0C6D2103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EFE-4EC9-45C5-A84B-8C836C9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194-4950-4F9C-87DA-FD94AFC7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FB7E-5C95-4B2C-BE2C-C473A97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72F1-6315-4FC7-8E01-0BC13F7E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30F7-829D-4D10-8586-B05067F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BB8F-AC23-41E5-AE77-E709677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878-90FE-468F-B9BD-8723566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68C-1E67-4734-8B90-368EB09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B3C-870D-4E7E-B4D7-DEAA6F6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1ED9-1D64-4303-B034-0238D8BF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8AC5-62AD-4735-91AC-66F867E1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FB34-E327-46EC-86D0-A7AFBA26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957-6405-4925-909F-77953B9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C2B-6C0C-40B2-886D-B251059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60F-039C-4759-83D1-5C0FFC5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7C7-05BF-4B4C-9820-23E9712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386-5CFD-4C9D-AC2B-96ADFFD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310-1458-4ED9-83CC-F754D64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C89-426B-43D1-AC97-0B93F4E7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516-940E-48BE-8982-BF284626CC0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EA3-48AD-4D1F-8A20-8F4D968EDAB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Reporting:  Availability of Financial and Environmental Information for the Environmentally Responsible Investor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343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athy Lancaster, Cal Poly – San Luis Obisp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olyn Strand, Seattle Pacific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ample Firms Characteristic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2514600"/>
          <a:ext cx="7772400" cy="2987640"/>
        </p:xfrm>
        <a:graphic>
          <a:graphicData uri="http://schemas.openxmlformats.org/drawingml/2006/table">
            <a:tbl>
              <a:tblPr/>
              <a:tblGrid>
                <a:gridCol w="3124080"/>
                <a:gridCol w="1295280"/>
                <a:gridCol w="1409760"/>
                <a:gridCol w="194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inimum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ales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ssets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rket Capitalization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Return on Equ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Return on Asse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et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,8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1,68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,28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.00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.00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.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23,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144,52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544,5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47.03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1.09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.0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38,79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9,18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50,16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20.27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6.97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.7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41768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17680" y="10638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Financi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1676520"/>
          <a:ext cx="7696080" cy="4205160"/>
        </p:xfrm>
        <a:graphic>
          <a:graphicData uri="http://schemas.openxmlformats.org/drawingml/2006/table">
            <a:tbl>
              <a:tblPr/>
              <a:tblGrid>
                <a:gridCol w="5105160"/>
                <a:gridCol w="259092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read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tock Price on Web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tock Chart on Web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Annual Report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 to 10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Edgar Lin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p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EC filings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bility to Download and Manipulate Information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Financi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76520"/>
          <a:ext cx="7772400" cy="484668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rterly Financial Inform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to Presentation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to Press Releas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imeliness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Quarter Result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ibil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on Home Page with Constant Sidebar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Investor Relations Lin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earchable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Environment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209680"/>
          <a:ext cx="7772400" cy="397836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read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ull Environmental, Health, and Safety Report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p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tailed Release Inform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ulti-year Comparisons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ore than One Year of Information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62120" y="2286000"/>
          <a:ext cx="7772400" cy="2560680"/>
        </p:xfrm>
        <a:graphic>
          <a:graphicData uri="http://schemas.openxmlformats.org/drawingml/2006/table">
            <a:tbl>
              <a:tblPr/>
              <a:tblGrid>
                <a:gridCol w="4876560"/>
                <a:gridCol w="289584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imeliness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year (1999) Report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ibil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on Homepage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Easily Viewable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1"/>
          <p:cNvSpPr/>
          <p:nvPr/>
        </p:nvSpPr>
        <p:spPr>
          <a:xfrm>
            <a:off x="457200" y="8380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Environmental Disclosures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in the lower half of the CEP ranking are less likely to include full EHS reports on their websi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of the four firms with no environmental performance information are in the bottom hal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wo are not ranked by CE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mixed when we compare the IRRC compliance index to web disclosur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are just as likely to include a full EHS report if their performance is in the lower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 as those in the upper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n, the firm with the best IRRC ranking, had very proactive environmental disclosur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r McGee, the firm with the worst ranking, did not have any hard data on their Web si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nancial performance – much more comprehensive than three years ago, can use to evaluate perform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vironmental performance – difficult to make comparisons, environmentally responsible investors must still rely on other sources such as the CEP or the IRRC databa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ggestions to fir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ownloadable Excel fi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nsistent menu template as user “drills dow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parable coverage across compan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uture researc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dentify best practi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moco for Financial disclos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nron for Environmental disclos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mplement environmental disclosures based on guidelines (i.e. STE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rporate websi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reasing reliance on website as information source for investors (dot.com.com survey 2000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liable source of environmental performance information for socially responsible investors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rms in oil and gas industry often have environmental responsibil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promote themselves as being environmentally friendly (i.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 Amoc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socially responsible investor discriminate based on web informatio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type of environmental performance information is available on corporate websites for firms in the oil and gas industry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es information on the corporate website accurately reflect the company’s environmental performanc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es size of firm impact quality of web-based informatio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73% of Forbes 500 firms did not disclose environmental issues anywhere in the their 1991 annual report (Kreuze et al. 1996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992 survey by then PW found that 62% of companies with environmental liabilities did not disclose in annual report (Surma and Vondra 1992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 of 290 firms across seven industries maintained a web site (Ashbaugh et al. 1999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 percent of the firms with web sites provide internet financial reporting (IFR), including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hensive set of financial statement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to their annual report housed on a third party si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to the U.S. Securities and Exchange Commission’s (SEC) EDGAR system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de there is considerable variation in the quality of information and usefulness of firms’ IFR practice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web presence of top global oil and gas companies suggests that most companies provide financial, product, service, and community service information (EY 1999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detail of what is disclos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valuate web disclosures of financial and environmental performance for oil and gas firm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gan with 27 oil and gas firms with CEP or IRRC ranking, final sample consisted of 18 fir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 all sites in October, 2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valuate web disclosures using categories described by Louwer et al. (1998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quality web site meets the needs of users in two way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s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nvironmental performance to CEP (1997) and IRRC (1996) rank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 ranks Oil and Gas companies on a 3-factor environmental performance rubr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impact (60 percent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management systems and policy (30 percent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eporting and communications (10 percent)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C ranks Oil and Gas firms using Compliance Inde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zes the total cost of penalties for all environmental statutes in a single yea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5:16:29Z</dcterms:created>
  <dc:creator>Charles and Kathryn Lancaster</dc:creator>
  <dc:description/>
  <dc:language>en-US</dc:language>
  <cp:lastModifiedBy>mramir14</cp:lastModifiedBy>
  <dcterms:modified xsi:type="dcterms:W3CDTF">2008-01-28T22:25:20Z</dcterms:modified>
  <cp:revision>10</cp:revision>
  <dc:subject/>
  <dc:title>Assessing Long-term Knowledge Retention of Managerial Accounting Material from a Participative Learning Environment </dc:title>
</cp:coreProperties>
</file>