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iscoBulletCroppedWh" descr=""/>
          <p:cNvPicPr/>
          <p:nvPr/>
        </p:nvPicPr>
        <p:blipFill>
          <a:blip r:embed="rId2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EADAAC7-525F-4028-AFBC-1AC123A523F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uymainIND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5791320"/>
            <a:ext cx="160020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7004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1844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7872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7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7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391520" cy="233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wardship and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Balanced Scorecar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t of performance measures that support an organization’s strateg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 management identifies performance drivers (perspectives) based on mi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velops key performance indicators in a metric of categories that support strategic pla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1F1CD55-16D7-43C1-98A8-BD111D8DC7B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447920"/>
            <a:ext cx="4800600" cy="518148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 Characteristics of Balanced Score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EE066CE-1132-4977-8E46-612CEE74055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05520" y="1295280"/>
            <a:ext cx="3609720" cy="5257800"/>
            <a:chOff x="5105520" y="1295280"/>
            <a:chExt cx="3609720" cy="5257800"/>
          </a:xfrm>
        </p:grpSpPr>
        <p:sp>
          <p:nvSpPr>
            <p:cNvPr id="112" name=""/>
            <p:cNvSpPr/>
            <p:nvPr/>
          </p:nvSpPr>
          <p:spPr>
            <a:xfrm>
              <a:off x="5181480" y="4267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213372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1295280"/>
              <a:ext cx="2666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d00e2e"/>
                  </a:solidFill>
                  <a:latin typeface="Arial"/>
                </a:rPr>
                <a:t>Persp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19810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304812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5812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51814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l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1752480"/>
              <a:ext cx="2923920" cy="4800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600" y="2514600"/>
              <a:ext cx="266688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/Custo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40384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5715000"/>
              <a:ext cx="2324160" cy="68292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 and Service 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14600"/>
              <a:ext cx="60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2971800"/>
              <a:ext cx="60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520" y="3657600"/>
              <a:ext cx="60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05520" y="533412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81480" y="6019920"/>
              <a:ext cx="60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105520" y="480060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457200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apt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3505320"/>
            <a:ext cx="1295640" cy="82332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ON AND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520" y="1752480"/>
            <a:ext cx="4343400" cy="4538160"/>
            <a:chOff x="533520" y="1752480"/>
            <a:chExt cx="4343400" cy="4538160"/>
          </a:xfrm>
        </p:grpSpPr>
        <p:sp>
          <p:nvSpPr>
            <p:cNvPr id="132" name=""/>
            <p:cNvSpPr/>
            <p:nvPr/>
          </p:nvSpPr>
          <p:spPr>
            <a:xfrm>
              <a:off x="838080" y="2666880"/>
              <a:ext cx="403884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is our product’s impact on the environmen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752480"/>
              <a:ext cx="3429000" cy="286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are company’s financial goal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520" y="2133720"/>
              <a:ext cx="42670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 are our customers, how do we retain them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8800" y="3352680"/>
              <a:ext cx="297180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capabilities/characteristics do we need in our employe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6520" y="5257800"/>
              <a:ext cx="3124080" cy="286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our suppliers partner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4648320"/>
              <a:ext cx="38098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w flexible is our organization and our employe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791320"/>
              <a:ext cx="31240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are our product, service, and price attribut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4038480"/>
              <a:ext cx="28954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our operations efficient, effective, and saf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any’s Strategy and the Balanced Scorecard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Key performance indicators should be linked together, so that if one improves, it will lead to improvement of another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: Continually tests the theories underlying management’s strategy.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EFBD48-7660-4956-B1F6-4DDF9117F10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B36274D-B4C6-47D7-82B6-B71175B5743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295280"/>
            <a:ext cx="746748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perations or Internal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ercentage of sales from new products</a:t>
            </a:r>
            <a:br>
              <a:rPr sz="2000"/>
            </a:b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ercentage of customer calls ans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w/in 20 sec.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Time to introduce new products to market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ket/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Customer Satisfaction</a:t>
            </a:r>
            <a:br>
              <a:rPr sz="20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Number of Customer complaint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ople and Adaptability/Learning and Growth Perspectiv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Suggestions per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Employee Turn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formance Meas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6172200"/>
            <a:ext cx="2590920" cy="31644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Desired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6172200"/>
            <a:ext cx="2743200" cy="316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Desired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92F44DC-1353-4DCB-89BB-68108E2BDDD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on &amp; Finance Divi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203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cki Stover, D. P. A. Associate V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: Create and provide high quality, efficient support and planning services as an integral part of the campus community and in support of the educational mission characterized by a polytechnic, learn by doing enviro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on:  We will strive to reflect the highest professional and ethical standards, provide leadership in fostering a sense of community, and promote innovative and creative means of delivering quality service in support of the mission of the univers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8F2EC57-EDBD-4D54-B6CC-1BE6DF28796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uiding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34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ve processes should be customer oriented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ision making should be localized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ve processes should be simplifi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titudes should support innovation, and Evaluative measures should be developed to assess whether these principles are being practic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1461A78-01B8-4D3F-ACD3-9DEABA9EEA8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rpose of Balanced Score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34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provide quality with fewer resour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eliminate non-value added eff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align customer priorities and expectations with the custom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track progr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evaluate process cha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ntinually impro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increase account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our Persp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7000"/>
          </a:bodyPr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hieve our vision, how should we appear to our custom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and Learn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hieve our vision, how will we sustain our ability to change and impro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atisfy our customers, at what  business processes must we excel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cceed financially, how should we appear to our constitu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EBB2C14-6AF0-4CD7-A2E4-04C3DBC7DA4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bsfram1" descr=""/>
          <p:cNvPicPr/>
          <p:nvPr/>
        </p:nvPicPr>
        <p:blipFill>
          <a:blip r:embed="rId1"/>
          <a:stretch/>
        </p:blipFill>
        <p:spPr>
          <a:xfrm>
            <a:off x="2057400" y="1868400"/>
            <a:ext cx="56386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ility Services Critical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5600" cy="449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er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Environment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ing of Campus Build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/Parking 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igeration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23920" y="1676160"/>
            <a:ext cx="395604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al Trades-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mbing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wing and Ed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and Equipment 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0B1CE2-30E0-40FF-A6E5-9611C763DC4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mits to Grow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apacity of the environment to deal with wast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ritical resources – i.e., ozone layer, carbon cycle, Amazon fores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228600" y="-666720"/>
            <a:ext cx="1021068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609480" y="-399960"/>
            <a:ext cx="10287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Land Semin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853320" cy="350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647640" indent="-647640">
              <a:lnSpc>
                <a:spcPct val="85000"/>
              </a:lnSpc>
              <a:spcBef>
                <a:spcPts val="2126"/>
              </a:spcBef>
              <a:buClr>
                <a:srgbClr val="00a0e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formance Areas (Critical Function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8A06092-F7E6-4199-95B8-8D9DDB198FC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Mission/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predominantly undergraduate, comprehensive, polytechnic university serving California, the mission of Cal Poly is to discover, integrate, articulate,  and apply knowl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t does by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emphasizing teaching; engaging in research; participating in the various commun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local, state, national, and international, with which it pursues common interests; and where appropriate,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providing students with the unique experience of direct involvement with the actual challenges of their discipl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United States and abroa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 Poly is dedicated to complete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respect for human righ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development of the full potential of each of its individual members. Cal Poly is committed to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providing an environment where all share in the common responsibility to safeguard each other's righ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ncourage a mutual concern for  individual growth and appreciate the benefits of a diverse campus commun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4EF5CAB-51E7-49CA-A329-EE196BCCAB3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Land Seminar/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 Poly’s land has been central to its evolving identity.  </a:t>
            </a:r>
            <a:r>
              <a:rPr b="1" lang="en-US" sz="2400" spc="-1" strike="noStrike">
                <a:solidFill>
                  <a:srgbClr val="d00e2e"/>
                </a:solidFill>
                <a:latin typeface="Arial"/>
              </a:rPr>
              <a:t>Knowing, appreciating, using, and taking care of this 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common concerns shared by all departments, and by students, faculty, and staff.  This particular ten thousand acres sustains our work and defines our instit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Provost has sponsored the creation of a Faculty Seminar for the year 2000-2001 to study, publicize, and celebrate Cal Poly La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16C0BD7-0548-405B-96C5-88DCC48BFBC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wanton Pacific Ranch 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Cal Poly students, staff, faculty, and the general public a unique interdisciplinary environment in which to live and learn.  To foster the “learn by doing” philosophy by providing learning experiences on a working ranch with diversified agriculture and forest reser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19B9B0D-2A1D-430D-90B5-531C1005B7B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AF8B78C-A310-447B-8601-C441982549E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itical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403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oor Re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a and Fau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3280" y="229536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e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/La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AC5F608-4DB1-49CF-993A-934C720849A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p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403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229536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0CE9A65-5B26-4A73-A821-106BCEB768A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ities – resources that have no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we place value on externality – something of intrinsic valu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M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gedy of the Comm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9412DFD-A6AF-4849-8764-8A9ABF89251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 Reg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ation, F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ight, Guid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, Resource Substitution, Conservation, Population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C327058-4F56-43FD-BFBA-AB232BEAB94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sent Valu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termine costs and benefits over life of invest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 and benefits in the future have little consideration in model (i.e PV of $1 received 20 years from now at a 10% factor is worth 14.9%. Future generations are not really consi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B8807EE-507D-44F9-BEA5-223FA590FF0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stainabl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lows people to think of compromises; of ways to temper the impact of growth without sacrificing it entirely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CCEFEE-A04D-40B2-989B-2D2FC986E7B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lan Savory (The Last Ranch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onomic 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11ADEB8-0B71-4278-8D6B-3824DA06485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 Tests to validate any to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nor the ecosystem as a who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the weak link in the oper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causes, not sympto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ive the best marginal reaction per doll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ent a conscientious use of energy and  nonrenewable weal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ect society and cul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5AEC788-BBA2-452E-92A5-F96D5C2D0E0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e the whole you expect to deal wi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st what you want (outcome, goal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cribe desired quality of life, general activity to support it, and the landscape that will sustain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 how to attain go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itor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l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05:41:03Z</dcterms:created>
  <dc:creator>Jedy Kuizon</dc:creator>
  <dc:description/>
  <dc:language>en-US</dc:language>
  <cp:lastModifiedBy>Computer Lab</cp:lastModifiedBy>
  <dcterms:modified xsi:type="dcterms:W3CDTF">2001-06-23T23:28:46Z</dcterms:modified>
  <cp:revision>23</cp:revision>
  <dc:subject/>
  <dc:title>Chapter 10 Costs and the Balanced Scorecard </dc:title>
</cp:coreProperties>
</file>