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15E0-D938-4898-A1A7-BAC9AE07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 more recent 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 more recent ti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116-F43E-421A-B7F9-A926692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F82-9109-4300-A306-F710065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A33-B476-428E-9FE8-ED949D4D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6A-02D6-4DEC-9BA3-DCC4E562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BBF-B201-4A2A-A16C-E68A2157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43C9-946D-4A04-80CE-79E000E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2BFB-9E4B-417D-8304-8C8410E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FDB7-ADCB-4663-AE79-63DE2C4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D35-1C7C-42DC-A80E-4BA2668A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ADD-D55B-4E6B-8110-2D9B7247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4C26-8887-41C6-B3B5-1635831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470-2524-4144-8452-A395FE8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04F-BF29-4E2E-BF03-675508D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60FA-7333-48E7-AD2B-98C68F3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DB85-E7EA-4A58-864E-E08E4123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24C6-6BB4-475C-B033-2940192A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92E3-6A0C-435B-86CF-C3FFC74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BB7-84C5-4CD9-B3FF-0A0B8CF0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D7A-077B-49B8-BF91-48AC22B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32E-684F-4945-915A-ED02BFA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F84-A01B-44FB-9169-EE9147E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41A-1C05-4C66-A6D8-BBC43A6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6A8-D8CD-48E4-B541-6A9876F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ADE-0968-44E0-8161-24865CF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6009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cc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05A5-2181-471F-8CB9-CF0F128B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B997-10D0-4D62-BCB5-42F514434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6009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33cccc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Book Antiqua"/>
              </a:rPr>
              <a:t>VALUATION ANALYSIS OF ENVIRONMENTAL DISCLOSURES</a:t>
            </a:r>
            <a:br>
              <a:rPr sz="4400"/>
            </a:b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Kathryn A. S. Lancaster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Cal Poly State Universit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August 18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20760" y="1636560"/>
          <a:ext cx="6997680" cy="670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36560"/>
                    <a:ext cx="6997680" cy="67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garding “past sins” impounded in stock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are concerned about financial impact of future environmental risk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do not appear to value superior environment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ul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Discl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legal proceeding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information about future environmental activities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mediation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capital expenditure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onclusio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and FASB concern about relevance of environmental disclosures is 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guidance on disclosure of future environmental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s perceive that capital expenditures have revenue generating/cost reduction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 SEC Liais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pp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more recent period than prev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h and McNichols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current authoritative guidance SOP 9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PA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d60093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incremental value of firm discl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Research Questio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nvestors value firm-specific environmental performance information provided by an external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nvestors value firm-provided environmental disclos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Methodology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grom and Roberts 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lson 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Valuation Model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9360" y="1587600"/>
          <a:ext cx="6313680" cy="44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587600"/>
                    <a:ext cx="631368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Data Sourc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 S&amp;P 500 fi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Financial Data-Compustat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1993 environmental performance data summarized by IR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n (1995), Campbell et al (1996), Mitchell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disclosures in 1994 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Variables of Interes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1752480"/>
          <a:ext cx="7253280" cy="54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2532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Selected Descriptive 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identified as PRP (Superfund si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2-digit SIC codes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of 11.6 Superfund sites, 21M pounds of TRI releases, $821,000 in penalties per 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18:20:30Z</dcterms:created>
  <dc:creator>Kathy Lancaster</dc:creator>
  <dc:description/>
  <dc:language>en-US</dc:language>
  <cp:lastModifiedBy>Kathryn Lancaster</cp:lastModifiedBy>
  <cp:lastPrinted>1998-08-14T18:14:50Z</cp:lastPrinted>
  <dcterms:modified xsi:type="dcterms:W3CDTF">2001-04-25T00:54:37Z</dcterms:modified>
  <cp:revision>9</cp:revision>
  <dc:subject/>
  <dc:title>VALUATION ANALYSIS OF ENVIRONMENTAL DISCLOSURES </dc:title>
</cp:coreProperties>
</file>