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68D1-7126-43E2-B379-3E3F2DD2C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a more recent ti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a more recent ti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7FBC-7FFE-422B-998E-84BE73F8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B72-68F9-4DAC-BB26-1D7456E8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ED0-9CAA-42B3-90AB-3EC3D69F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5D7-67CC-47C1-874F-E514863B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4EDA-9866-4BAE-AFBB-CBC58115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A21E-3826-47F8-B6A9-B96BE098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FD62-2027-46E3-A128-9519337F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6993-08E7-45EA-8B68-5C72AD14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5A54-D739-4B2D-A2A0-BE304C67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2906-9084-4D51-965F-4451760C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9E4B-425E-4BBF-AA24-EF58BBC7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88E-DF8A-4B02-A422-ADFB2560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A10A-746D-49AE-8BDC-B4F4C23E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A8EE-1563-40FB-81B7-4D734874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66AB-7C13-417C-A087-33F10051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2D9B-CD91-47AC-9A53-18017F14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EB33-AF1A-4555-9E0E-D80C9E61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BC6-678C-4126-88E5-BF431B24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259-8C1C-4882-885C-A0E793ED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C5F-4CB8-4579-B1A9-4324A517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C77-418A-411B-8216-C2D44B47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3D29-EB50-4C9E-98A2-E5533A63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9ABC-0B8A-45FD-A9F9-2FA6FF53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40BD-45B8-4BEB-8FF4-53F3005C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d6009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cc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9824-FCF6-4AC2-9611-038A116B2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9C7D-6CC7-4740-A260-FE5AFCAC0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d6009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33cccc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Book Antiqua"/>
              </a:rPr>
              <a:t>VALUATION ANALYSIS OF ENVIRONMENTAL DISCLOSURES</a:t>
            </a:r>
            <a:br>
              <a:rPr sz="4400"/>
            </a:b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Kathryn A. S. Lancaster</a:t>
            </a:r>
            <a:br>
              <a:rPr sz="3200"/>
            </a:b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Cal Poly State University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August 18,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Resul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220760" y="1636560"/>
          <a:ext cx="6997680" cy="670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36560"/>
                    <a:ext cx="6997680" cy="670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Resul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regarding “past sins” impounded in stock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ors are concerned about financial impact of future environmental risks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ors do not appear to value superior environmental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Resul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Discl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legal proceedings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information about future environmental activities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remediation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capital expenditures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onclusion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 and FASB concern about relevance of environmental disclosures is va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guidance on disclosure of future environmental expendi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ors perceive that capital expenditures have revenue generating/cost reduction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diation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A SEC Liaison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c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Interest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upp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tainabl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more recent period than previou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th and McNichols (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current authoritative guidance SOP 96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CPA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incremental value of firm discl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Research Question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investors value firm-specific environmental performance information provided by an external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investors value firm-provided environmental disclos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Methodology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keholder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grom and Roberts (19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ation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lson 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Valuation Model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49360" y="1587600"/>
          <a:ext cx="6313680" cy="447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9360" y="1587600"/>
                    <a:ext cx="631368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Data Source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8 S&amp;P 500 fi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4 Financial Data-Compustat 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-1993 environmental performance data summarized by IR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n (1995), Campbell et al (1996), Mitchell (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disclosures in 1994 Annual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Variables of Interes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90720" y="1752480"/>
          <a:ext cx="7253280" cy="541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25328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Selected Descriptive Statistic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7% identified as PRP (Superfund si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 2-digit SIC codes 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ily manufac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of 11.6 Superfund sites, 21M pounds of TRI releases, $821,000 in penalties per fi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2T18:20:30Z</dcterms:created>
  <dc:creator>Kathy Lancaster</dc:creator>
  <dc:description/>
  <dc:language>en-US</dc:language>
  <cp:lastModifiedBy>Kathryn Lancaster</cp:lastModifiedBy>
  <cp:lastPrinted>1998-08-14T18:14:50Z</cp:lastPrinted>
  <dcterms:modified xsi:type="dcterms:W3CDTF">2001-04-25T00:54:37Z</dcterms:modified>
  <cp:revision>9</cp:revision>
  <dc:subject/>
  <dc:title>VALUATION ANALYSIS OF ENVIRONMENTAL DISCLOSURES </dc:title>
</cp:coreProperties>
</file>