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81C3-C3BF-4CB5-BED4-2C70BEA4A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91120" y="274464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EAB4-292A-4337-A63A-3602317C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534000" y="182880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191120" y="274464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534000" y="274464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05AF-F9EF-4609-81EF-B067B6961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737320" y="182880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7283160" y="182880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191120" y="274464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5737320" y="274464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7283160" y="274464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D009-32FC-4CE0-9984-8018BBFE0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2230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534000" y="1828800"/>
            <a:ext cx="2230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743200" y="426960"/>
            <a:ext cx="6399360" cy="70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534000" y="1828800"/>
            <a:ext cx="2230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191120" y="274464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5085-245B-44C9-BA84-B2B0D66E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2230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534000" y="182880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34000" y="274464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534000" y="182880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191120" y="274464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91120" y="274464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534000" y="182880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191120" y="274464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534000" y="274464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737320" y="182880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7283160" y="182880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191120" y="274464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5737320" y="274464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7283160" y="274464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1885-6793-4CAA-8823-EAC8CE78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2230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34000" y="1828800"/>
            <a:ext cx="2230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F90F-F66A-4CF8-857A-C19EF00B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8C32-EB4A-4F06-B5E3-180FF479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43200" y="426960"/>
            <a:ext cx="6399360" cy="70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EBBC-1FC5-45EB-9B94-FE55DF05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34000" y="1828800"/>
            <a:ext cx="2230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191120" y="274464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C1D8-300E-4F04-B86E-97D45BAA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2230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534000" y="182880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34000" y="274464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44A1-FB48-4EBA-81E1-10D62312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34000" y="182880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91120" y="274464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CC06-9AEB-4674-B505-73AC92F8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2240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0" y="1295280"/>
          <a:ext cx="933480" cy="89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95280"/>
                    <a:ext cx="933480" cy="8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" name=""/>
          <p:cNvGraphicFramePr/>
          <p:nvPr/>
        </p:nvGraphicFramePr>
        <p:xfrm>
          <a:off x="1828800" y="5715000"/>
          <a:ext cx="933480" cy="892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28800" y="5715000"/>
                    <a:ext cx="93348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" name=""/>
          <p:cNvGraphicFramePr/>
          <p:nvPr/>
        </p:nvGraphicFramePr>
        <p:xfrm>
          <a:off x="1676520" y="3962520"/>
          <a:ext cx="933480" cy="892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76520" y="3962520"/>
                    <a:ext cx="93348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" name=""/>
          <p:cNvGraphicFramePr/>
          <p:nvPr/>
        </p:nvGraphicFramePr>
        <p:xfrm>
          <a:off x="990720" y="2590920"/>
          <a:ext cx="933480" cy="892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90720" y="2590920"/>
                    <a:ext cx="93348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38188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cc"/>
                </a:solidFill>
                <a:latin typeface="Bradley Hand ITC"/>
              </a:rPr>
              <a:t>Sustainable Accounting and Financial Management</a:t>
            </a:r>
            <a:endParaRPr b="1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428640" y="3124080"/>
            <a:ext cx="533412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radley Hand ITC"/>
              </a:rPr>
              <a:t>Presented at AASHE 2006: The Role of Higher Education in Creating a Sustainable Wor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radley Hand ITC"/>
              </a:rPr>
              <a:t>Doug Cerf, Arline Savage, and Kate Lancaster,</a:t>
            </a:r>
            <a:r>
              <a:rPr b="1" i="1" lang="en-US" sz="2000" spc="-1" strike="noStrike">
                <a:solidFill>
                  <a:srgbClr val="ffffff"/>
                </a:solidFill>
                <a:latin typeface="Bradley Hand IT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radley Hand ITC"/>
              </a:rPr>
              <a:t>Orfalea College of Busin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radley Hand ITC"/>
              </a:rPr>
              <a:t>California Polytechnic State University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radley Hand ITC"/>
              </a:rPr>
              <a:t>San Luis Obisp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480" y="1523880"/>
          <a:ext cx="933480" cy="8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933480" cy="8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295280" y="2819520"/>
          <a:ext cx="933480" cy="89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2819520"/>
                    <a:ext cx="93348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1676520" y="4343400"/>
          <a:ext cx="933480" cy="89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343400"/>
                    <a:ext cx="93348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1905120" y="5791320"/>
          <a:ext cx="933480" cy="89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05120" y="5791320"/>
                    <a:ext cx="93348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2CCAE3B-8B44-4FBC-9215-E1504F06D6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Issue:  Capture qualitative performance indic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Teaching tool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adley Hand ITC"/>
              </a:rPr>
              <a:t>Balanced Scorecard basic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Internal assessment and repor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Ties corporate metrics to strate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Considers 4 perspectives including learning/growth, business process, customer and finan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Expanded to sustainable balanced scorec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Bradley Hand ITC"/>
              </a:rPr>
              <a:t>Balanced Scorecard basic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2D4A-F93A-4398-B025-B001AA5E53F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2EB2F7-0260-47B5-8B4D-6CA707C4FB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819160" y="1904760"/>
            <a:ext cx="609588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Issue:  Financing and Costing a Cleanup s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Which generation should pay for the cleanup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Past/current/future or some comb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Resource: Chesterfield Municipal Landfi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Municipal Bonds and service rate incr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143000" y="3805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Bradley Hand ITC"/>
              </a:rPr>
              <a:t>Sustainable Management Accounting – Costing Issue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84EF-ADCA-4CA4-AC93-5949DDAFDAA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C1C11C-C651-47D2-B09E-E6C24DAB97AA}" type="datetime1">
              <a:rPr lang="en-US"/>
              <a:t>07/30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Bradley Hand ITC"/>
              </a:rPr>
              <a:t>Sustainable Management Accounting</a:t>
            </a:r>
            <a:br>
              <a:rPr sz="4000"/>
            </a:b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19160" y="16002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5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radley Hand ITC"/>
              </a:rPr>
              <a:t>Issues: Proper allocation of environmental costs to products for product introduction, retention and elimination decis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Current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radley Hand ITC"/>
              </a:rPr>
              <a:t>Past cos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radley Hand ITC"/>
              </a:rPr>
              <a:t>Future costs from retroactive regul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Re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Specialty Glass C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DD50-5D5A-458C-B46E-601845B2811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61CB8D-7B23-4347-9303-EF9BB30515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Bradley Hand ITC"/>
              </a:rPr>
              <a:t>Socially responsible investing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Issu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adley Hand ITC"/>
              </a:rPr>
              <a:t>financial performance and Social/ sustainable/ethical etc.. Performa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adley Hand ITC"/>
              </a:rPr>
              <a:t>Many vehicles are availab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adley Hand ITC"/>
              </a:rPr>
              <a:t>Competitive with non SR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adley Hand ITC"/>
              </a:rPr>
              <a:t>Screening method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adley Hand ITC"/>
              </a:rPr>
              <a:t>Socially responsible firm is a signal of good manag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Resources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adley Hand ITC"/>
              </a:rPr>
              <a:t>Innovest Research and Rating methodology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adley Hand ITC"/>
              </a:rPr>
              <a:t>Harvard Case-ABB 200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adley Hand ITC"/>
              </a:rPr>
              <a:t>Develop Socially Responsible Investing vehic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D471-F0EC-4354-B3A3-D1F9196DB99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3C29E3-B503-4348-B115-AC7645CE2E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742840" y="1219320"/>
            <a:ext cx="609588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4000"/>
          </a:bodyPr>
          <a:p>
            <a:pPr marL="219240" indent="-21924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Issue:  Regulatory response evaluation to Clean air act amendments, which o</a:t>
            </a: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riginated from the Acid Rain problem (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radley Hand ITC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19240" indent="-2192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Emerging area is in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radley Hand ITC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greenhouse gas tr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9240" indent="-219240">
              <a:lnSpc>
                <a:spcPct val="90000"/>
              </a:lnSpc>
              <a:spcBef>
                <a:spcPts val="624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radley Hand ITC"/>
              </a:rPr>
              <a:t>Resource:  Acid Rain: Southern Co. Cas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-1828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radley Hand ITC"/>
              </a:rPr>
              <a:t>Quantitative NPV analysi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-1828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radley Hand ITC"/>
              </a:rPr>
              <a:t>Sensitivity to assumptions on permit prices, fuel prices etc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-1828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radley Hand ITC"/>
              </a:rPr>
              <a:t>Qualitative consideration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Bradley Hand ITC"/>
              </a:rPr>
              <a:t>Market Mechanism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3B5E-D279-48E8-960B-FDF7694030F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B733FE-B37A-440B-A666-92AE6A378D6E}" type="datetime1">
              <a:rPr lang="en-US"/>
              <a:t>07/30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Bradley Hand ITC"/>
              </a:rPr>
              <a:t>Environmental Accounting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382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radley Hand ITC"/>
              </a:rPr>
              <a:t>Issue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adley Hand ITC"/>
              </a:rPr>
              <a:t>Financial Accoun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adley Hand ITC"/>
              </a:rPr>
              <a:t>Finance (NPV analysis, estimating cash flow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adley Hand ITC"/>
              </a:rPr>
              <a:t>Management Accoun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adley Hand ITC"/>
              </a:rPr>
              <a:t>Leg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adley Hand ITC"/>
              </a:rPr>
              <a:t>Ethic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adley Hand ITC"/>
              </a:rPr>
              <a:t>Public rela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Teaching t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radley Hand ITC"/>
              </a:rPr>
              <a:t>Multipaint Inc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adley Hand ITC"/>
              </a:rPr>
              <a:t>Producer of environmentally friendly pai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F165-598B-4807-A893-F6C288BF062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EB5F6A-9DDC-4CD6-92E6-FF2CEE4FCA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Bradley Hand ITC"/>
              </a:rPr>
              <a:t>National Income Environmental Accounting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radley Hand ITC"/>
              </a:rPr>
              <a:t>National Government level account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radley Hand ITC"/>
              </a:rPr>
              <a:t>How do we adjust national income accounting to include </a:t>
            </a:r>
            <a:r>
              <a:rPr b="0" lang="en-US" sz="2600" spc="-1" strike="noStrike">
                <a:solidFill>
                  <a:srgbClr val="ffffff"/>
                </a:solidFill>
                <a:latin typeface="Bradley Hand ITC"/>
              </a:rPr>
              <a:t>the use of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renew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non renewable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environmental degrad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AB0A-34A6-4F80-8EEA-3083DEEA3C9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3D7A53-EC35-48C0-AF6A-986611CA2E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Bradley Hand ITC"/>
              </a:rPr>
              <a:t>National Income Environmental Accounting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adley Hand ITC"/>
              </a:rPr>
              <a:t>National Income Environmental Accou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876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Bradley Hand ITC"/>
              </a:rPr>
              <a:t>Genuine Progress Indicator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An alternative to GD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A measure of well-be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876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Bradley Hand ITC"/>
              </a:rPr>
              <a:t>A Comparison of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9 countr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ED0B-DAD1-4DC5-8BFF-95882681414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4C5F10-8E83-4E9D-960A-F0E02F2BE5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Bradley Hand ITC"/>
              </a:rPr>
              <a:t>Social Return on Investmen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74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radley Hand ITC"/>
              </a:rPr>
              <a:t>A compliment to the financial bottom lin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74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radley Hand ITC"/>
              </a:rPr>
              <a:t>Computed on the same investment as financial ROI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Distributed Generation Technolo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74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radley Hand ITC"/>
              </a:rPr>
              <a:t>A sophisticated case of SROI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2930-CAA7-4096-8D56-C5FBEF1D71D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6CA11F-22F4-4963-A75F-677AAEA9D0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Bradley Hand ITC"/>
              </a:rPr>
              <a:t>Eco Efficiency</a:t>
            </a:r>
            <a:br>
              <a:rPr sz="6000"/>
            </a:br>
            <a:endParaRPr b="1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adley Hand ITC"/>
              </a:rPr>
              <a:t>method to provide information on environmental performance vis-à-vis financial performa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adley Hand ITC"/>
              </a:rPr>
              <a:t>Normalized by net value added by the fir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adley Hand ITC"/>
              </a:rPr>
              <a:t>Guideline are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adley Hand ITC"/>
              </a:rPr>
              <a:t>Water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adley Hand ITC"/>
              </a:rPr>
              <a:t>Energy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adley Hand ITC"/>
              </a:rPr>
              <a:t>Global warning contrib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adley Hand ITC"/>
              </a:rPr>
              <a:t>Ozone depleting substa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adley Hand ITC"/>
              </a:rPr>
              <a:t>Was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adley Hand ITC"/>
              </a:rPr>
              <a:t>Case Example-Ciba Specialty Chemica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D498-C2BC-4E60-9AE8-70B64206AB5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348973-499B-4569-A8E1-02B803F338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600200" y="380880"/>
            <a:ext cx="7391520" cy="12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Bradley Hand ITC"/>
              </a:rPr>
              <a:t>What is sustainability?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2209680"/>
            <a:ext cx="5867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Bradley Hand ITC"/>
              </a:rPr>
              <a:t>Intergenerational Economic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Bradley Hand ITC"/>
              </a:rPr>
              <a:t>Environmental and Socia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Bradley Hand ITC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Bradley Hand ITC"/>
              </a:rPr>
              <a:t>Equity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C066-7285-41BC-9781-DB469A66636E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0B5CB2-7407-4C3A-995B-8B3DC633F9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819520" y="182844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radley Hand ITC"/>
              </a:rPr>
              <a:t>The world we have created today as a result of our thinking thus far has problems which can not be solved by thinking the way we thought when we created them.……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radley Hand ITC"/>
              </a:rPr>
              <a:t>Albert Einst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0" y="1295280"/>
          <a:ext cx="933480" cy="8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33480" cy="8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1295280" y="2590920"/>
          <a:ext cx="933480" cy="89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2590920"/>
                    <a:ext cx="93348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1676520" y="4114800"/>
          <a:ext cx="933480" cy="89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14800"/>
                    <a:ext cx="93348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1981080" y="5791320"/>
          <a:ext cx="933480" cy="89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5791320"/>
                    <a:ext cx="93348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E09BC97-2F3C-4989-BE2E-275714A960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2819520" y="182844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radley Hand ITC"/>
              </a:rPr>
              <a:t>"Some people see the world as it is and ask "Why?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radley Hand ITC"/>
              </a:rPr>
              <a:t>I see the world as it can be and ask "Why not?"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radley Hand ITC"/>
              </a:rPr>
              <a:t>John F. Kenne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0" y="1295280"/>
          <a:ext cx="933480" cy="8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33480" cy="8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1295280" y="2590920"/>
          <a:ext cx="933480" cy="89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2590920"/>
                    <a:ext cx="93348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1676520" y="4114800"/>
          <a:ext cx="933480" cy="89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14800"/>
                    <a:ext cx="93348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1981080" y="5791320"/>
          <a:ext cx="933480" cy="89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5791320"/>
                    <a:ext cx="93348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7239C4B-EE45-4CC1-B77C-6505F58FF0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209680" y="304920"/>
            <a:ext cx="639936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Bradley Hand ITC"/>
              </a:rPr>
              <a:t>Overall Course Objective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2320" y="1981080"/>
            <a:ext cx="6553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radley Hand ITC"/>
              </a:rPr>
              <a:t>To Introduce markets, investments, reporting techniques and analytical methods used by entities (governments, firms and individuals) to support business decisions that are  sustainabl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217E-2991-40DB-9A98-31B739186EE7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E59080-4E6C-484F-8486-5326159BD6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09680" y="304920"/>
            <a:ext cx="639936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Bradley Hand ITC"/>
              </a:rPr>
              <a:t>Our process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1981080"/>
            <a:ext cx="6553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radley Hand ITC"/>
              </a:rPr>
              <a:t>“</a:t>
            </a:r>
            <a:r>
              <a:rPr b="1" lang="en-US" sz="4800" spc="-1" strike="noStrike">
                <a:solidFill>
                  <a:srgbClr val="ffffff"/>
                </a:solidFill>
                <a:latin typeface="Bradley Hand ITC"/>
              </a:rPr>
              <a:t>Tell me and I will forget, show me and I might remember.  But INVOLVE me and I will understand.”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1638-9DA7-4F1C-B578-38950F6E0605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C01F4E-1D2E-434F-9C95-1F720EF4C5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Bradley Hand ITC"/>
              </a:rPr>
              <a:t>18 Module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radley Hand ITC"/>
              </a:rPr>
              <a:t>Disclosures and Reporting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radley Hand ITC"/>
              </a:rPr>
              <a:t>Decision-making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radley Hand ITC"/>
              </a:rPr>
              <a:t>Investment Analysi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radley Hand ITC"/>
              </a:rPr>
              <a:t>Market Mechanism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radley Hand ITC"/>
              </a:rPr>
              <a:t>Other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9AD5-F26A-48BA-8ED1-4F7BE9A1215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2ED0C8-9837-4F56-89F1-7989E347DF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28800" y="4572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Bradley Hand ITC"/>
              </a:rPr>
              <a:t>External Financial reporting of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2840" y="1295280"/>
            <a:ext cx="60958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825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radley Hand ITC"/>
              </a:rPr>
              <a:t>Environmental Liabiliti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Issue: Recording probable and estimable liab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Teaching tool:  Experience the continuum of events at Purity Oil superfund site that led to Chevron’s reporting of a l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825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radley Hand ITC"/>
              </a:rPr>
              <a:t>Sustainable Business Practices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Issue:  Recording and Reporting Goodwi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Teaching tool:  It appears that the assets that really count are the ones that accountants can’t count--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7120-5E28-4B23-BAAC-93CA35CF1AA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C2E093-3197-4E25-9A02-8D1D7B801BC1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819160" y="159984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Issu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adley Hand ITC"/>
              </a:rPr>
              <a:t>Comparison to required financial repor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adley Hand ITC"/>
              </a:rPr>
              <a:t>GRI voluntary guidelin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adley Hand ITC"/>
              </a:rPr>
              <a:t>Define the scop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adley Hand ITC"/>
              </a:rPr>
              <a:t>Where is sustainable reporting headed in the next 5 years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adley Hand ITC"/>
              </a:rPr>
              <a:t>Will (parts of) sustainability reporting be included in required external reporting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76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radley Hand ITC"/>
              </a:rPr>
              <a:t>When sustainability is part of the strategic pla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Teaching tool:  Corporate sustainability reports i.e., FedEx/Kinko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adley Hand ITC"/>
              </a:rPr>
              <a:t>Fly under the rad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adley Hand ITC"/>
              </a:rPr>
              <a:t>Obtaining upper management suppo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5998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Bradley Hand ITC"/>
              </a:rPr>
              <a:t>Sustainability Reporting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E034-D7F1-483A-8963-C9B4E299BCE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B74527-AD08-428A-B70F-5F68FF80C68E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Bradley Hand ITC"/>
              </a:rPr>
              <a:t>External reporting of Green House Gase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Issue:  GHG Accounting and Reporting Stand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Inventory GH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Set GHG tar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Reduce GH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Set Bound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Organizational bounda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Operational bounda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radley Hand ITC"/>
              </a:rPr>
              <a:t>Teaching Tool: Stanford GHG Prim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CBA5-F988-4BB3-A08E-64EF8858944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851415-5833-4BA5-810B-D3AF4841AE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Bradley Hand ITC"/>
              </a:rPr>
              <a:t>Sustainability Reporting Assuranc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825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radley Hand ITC"/>
              </a:rPr>
              <a:t>Issues: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74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radley Hand ITC"/>
              </a:rPr>
              <a:t>Who is requiring assurance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74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radley Hand ITC"/>
              </a:rPr>
              <a:t>Assurance of 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The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The underlying management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Govern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73A5-ECA5-4964-95E5-D2F13D81159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2B6774-9A8B-40C1-89AF-67AE9BE3CF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te Lancaster</cp:lastModifiedBy>
  <dcterms:modified xsi:type="dcterms:W3CDTF">2006-10-05T07:48:51Z</dcterms:modified>
  <cp:revision>87</cp:revision>
  <dc:subject/>
  <dc:title>PowerPoint Presentation</dc:title>
</cp:coreProperties>
</file>