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EE5D-AB33-4271-985F-9C0B795C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91120" y="274464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948F-0FD7-4D26-8EC9-A148BA9A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191120" y="274464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534000" y="274464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0EB0-10A9-4FB7-93C4-54E9E2F2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737320" y="182880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7283160" y="182880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191120" y="274464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5737320" y="274464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7283160" y="274464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EFAC-78DF-4E92-8052-34F1DC97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43200" y="426960"/>
            <a:ext cx="6399360" cy="70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91120" y="274464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43F0-3F55-492B-ADED-020D6567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34000" y="274464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191120" y="274464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91120" y="274464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191120" y="274464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534000" y="274464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737320" y="182880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283160" y="182880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191120" y="274464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5737320" y="274464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7283160" y="274464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EE8B-4963-4E76-B0FE-01CEFF82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99B2-0497-4E7F-A561-5C3E3F3B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E3D3-213B-44D0-9113-38655CEC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43200" y="426960"/>
            <a:ext cx="6399360" cy="70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5CDF-F0AB-4687-8E50-631AF3DA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91120" y="274464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F197-1E76-4507-A781-19DD8800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34000" y="274464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7899-263E-4B4E-8D14-63861810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91120" y="274464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87A7-8C67-472A-8A4A-60038D7F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2240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0" y="1295280"/>
          <a:ext cx="933480" cy="89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95280"/>
                    <a:ext cx="933480" cy="8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" name=""/>
          <p:cNvGraphicFramePr/>
          <p:nvPr/>
        </p:nvGraphicFramePr>
        <p:xfrm>
          <a:off x="1828800" y="5715000"/>
          <a:ext cx="933480" cy="892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28800" y="5715000"/>
                    <a:ext cx="93348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" name=""/>
          <p:cNvGraphicFramePr/>
          <p:nvPr/>
        </p:nvGraphicFramePr>
        <p:xfrm>
          <a:off x="1676520" y="3962520"/>
          <a:ext cx="933480" cy="892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76520" y="3962520"/>
                    <a:ext cx="93348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" name=""/>
          <p:cNvGraphicFramePr/>
          <p:nvPr/>
        </p:nvGraphicFramePr>
        <p:xfrm>
          <a:off x="990720" y="2590920"/>
          <a:ext cx="933480" cy="892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90720" y="2590920"/>
                    <a:ext cx="93348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3818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cc"/>
                </a:solidFill>
                <a:latin typeface="Bradley Hand ITC"/>
              </a:rPr>
              <a:t>Sustainable Accounting and Financial Management</a:t>
            </a:r>
            <a:endParaRPr b="1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428640" y="3124080"/>
            <a:ext cx="533412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radley Hand ITC"/>
              </a:rPr>
              <a:t>Presented at AASHE 2006: The Role of Higher Education in Creating a Sustainable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radley Hand ITC"/>
              </a:rPr>
              <a:t>Doug Cerf, Arline Savage, and Kate Lancaster,</a:t>
            </a:r>
            <a:r>
              <a:rPr b="1" i="1" lang="en-US" sz="2000" spc="-1" strike="noStrike">
                <a:solidFill>
                  <a:srgbClr val="ffffff"/>
                </a:solidFill>
                <a:latin typeface="Bradley Hand IT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radley Hand ITC"/>
              </a:rPr>
              <a:t>Orfalea College of Busin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radley Hand ITC"/>
              </a:rPr>
              <a:t>California Polytechnic State University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radley Hand ITC"/>
              </a:rPr>
              <a:t>San Luis Obisp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480" y="1523880"/>
          <a:ext cx="933480" cy="8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933480" cy="8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295280" y="2819520"/>
          <a:ext cx="933480" cy="89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819520"/>
                    <a:ext cx="93348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676520" y="4343400"/>
          <a:ext cx="933480" cy="89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343400"/>
                    <a:ext cx="93348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905120" y="5791320"/>
          <a:ext cx="933480" cy="89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5120" y="5791320"/>
                    <a:ext cx="93348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59549C0-6625-48DD-8E41-9246B1AED0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Issue:  Capture qualitative performance indic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Teaching tool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Balanced Scorecard basic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Internal assessment and repor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Ties corporate metrics to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Considers 4 perspectives including learning/growth, business process, customer and finan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Expanded to sustainable balanced scorec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Bradley Hand ITC"/>
              </a:rPr>
              <a:t>Balanced Scorecard basic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D381-43B4-4D90-8966-7583202D157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AB49D3-ACFE-4C27-BF1A-5D689D2B69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819160" y="1904760"/>
            <a:ext cx="60958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Issue:  Financing and Costing a Cleanup 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Which generation should pay for the cleanup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Past/current/future or some comb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Resource: Chesterfield Municipal Landf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Municipal Bonds and service rate incr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Bradley Hand ITC"/>
              </a:rPr>
              <a:t>Sustainable Management Accounting – Costing Issue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85A2-837D-4448-83E9-BCAC3D0DDCB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9CBF39-8805-4A55-89B0-E59218F419FD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Bradley Hand ITC"/>
              </a:rPr>
              <a:t>Sustainable Management Accounting</a:t>
            </a:r>
            <a:br>
              <a:rPr sz="4000"/>
            </a:b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1916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5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radley Hand ITC"/>
              </a:rPr>
              <a:t>Issues: Proper allocation of environmental costs to products for product introduction, retention and elimination decis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Current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radley Hand ITC"/>
              </a:rPr>
              <a:t>Past cos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radley Hand ITC"/>
              </a:rPr>
              <a:t>Future costs from retroactive regul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Re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Specialty Glass C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8E48-7A94-4740-BD84-170C66B0B8A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474CE-B9E1-4D7B-8116-3A58CFD00E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Bradley Hand ITC"/>
              </a:rPr>
              <a:t>Socially responsible investing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Issu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financial performance and Social/ sustainable/ethical etc.. Perform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Many vehicles are availa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Competitive with non SR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Screening metho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Socially responsible firm is a signal of good manag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Resources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Innovest Research and Rating methodolog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Harvard Case-ABB 20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Develop Socially Responsible Investing vehic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E83D-3EDD-40EF-ABBF-A701116DCEF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2816DD-DCBE-47AF-8A0D-5D2805711E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742840" y="1219320"/>
            <a:ext cx="609588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4000"/>
          </a:bodyPr>
          <a:p>
            <a:pPr marL="219240" indent="-2192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Issue:  Regulatory response evaluation to Clean air act amendments, which o</a:t>
            </a: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riginated from the Acid Rain problem (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radley Hand ITC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9240" indent="-2192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Emerging area is in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radley Hand ITC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greenhouse gas tr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9240" indent="-219240">
              <a:lnSpc>
                <a:spcPct val="90000"/>
              </a:lnSpc>
              <a:spcBef>
                <a:spcPts val="624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radley Hand ITC"/>
              </a:rPr>
              <a:t>Resource:  Acid Rain: Southern Co. Cas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radley Hand ITC"/>
              </a:rPr>
              <a:t>Quantitative NPV analysi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radley Hand ITC"/>
              </a:rPr>
              <a:t>Sensitivity to assumptions on permit prices, fuel prices etc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radley Hand ITC"/>
              </a:rPr>
              <a:t>Qualitative consideration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Bradley Hand ITC"/>
              </a:rPr>
              <a:t>Market Mechanism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B24B-048C-4CE1-912F-E7BF8A1FE31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BD6FF4-92FF-4D54-B358-70DD860568DE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Bradley Hand ITC"/>
              </a:rPr>
              <a:t>Environmental Accounting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radley Hand ITC"/>
              </a:rPr>
              <a:t>Issu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Financial Accoun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Finance (NPV analysis, estimating cash flow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Management Accoun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Leg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Ethic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Public rela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Teaching t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radley Hand ITC"/>
              </a:rPr>
              <a:t>Multipaint Inc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dley Hand ITC"/>
              </a:rPr>
              <a:t>Producer of environmentally friendly pai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5025-AF93-45BA-A616-07A44454009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521899-49ED-4C91-A9A5-6956AD3585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Bradley Hand ITC"/>
              </a:rPr>
              <a:t>National Income Environmental Accounting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radley Hand ITC"/>
              </a:rPr>
              <a:t>National Government level account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radley Hand ITC"/>
              </a:rPr>
              <a:t>How do we adjust national income accounting to include </a:t>
            </a:r>
            <a:r>
              <a:rPr b="0" lang="en-US" sz="2600" spc="-1" strike="noStrike">
                <a:solidFill>
                  <a:srgbClr val="ffffff"/>
                </a:solidFill>
                <a:latin typeface="Bradley Hand ITC"/>
              </a:rPr>
              <a:t>the use of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renew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non renewable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environmental degra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3FF5-6602-4517-8658-7274042F9F6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94BA5A-7F8E-4459-BD62-F2DAE2C898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Bradley Hand ITC"/>
              </a:rPr>
              <a:t>National Income Environmental Accounting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adley Hand ITC"/>
              </a:rPr>
              <a:t>National Income Environmental Accou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876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Bradley Hand ITC"/>
              </a:rPr>
              <a:t>Genuine Progress Indicator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An alternative to GD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A measure of well-be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876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Bradley Hand ITC"/>
              </a:rPr>
              <a:t>A Comparison of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9 countr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DE92-2F61-49AC-90E3-BEF406788D5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73984-ABB4-43CD-AE27-C892AB6ED5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Bradley Hand ITC"/>
              </a:rPr>
              <a:t>Social Return on Investmen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74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radley Hand ITC"/>
              </a:rPr>
              <a:t>A compliment to the financial bottom lin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74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radley Hand ITC"/>
              </a:rPr>
              <a:t>Computed on the same investment as financial ROI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Distributed Generation Techn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74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radley Hand ITC"/>
              </a:rPr>
              <a:t>A sophisticated case of SROI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D1C8-F4C3-47C7-9065-8EDABD3F29F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8D5265-DF6A-44C1-AB14-7BBE0E46E8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Bradley Hand ITC"/>
              </a:rPr>
              <a:t>Eco Efficiency</a:t>
            </a:r>
            <a:br>
              <a:rPr sz="6000"/>
            </a:br>
            <a:endParaRPr b="1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method to provide information on environmental performance vis-à-vis financial perform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Normalized by net value added by the fir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Guideline are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dley Hand ITC"/>
              </a:rPr>
              <a:t>Water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dley Hand ITC"/>
              </a:rPr>
              <a:t>Energy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dley Hand ITC"/>
              </a:rPr>
              <a:t>Global warning contrib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dley Hand ITC"/>
              </a:rPr>
              <a:t>Ozone depleting substa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dley Hand ITC"/>
              </a:rPr>
              <a:t>Was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Case Example-Ciba Specialty Chemica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B7DE-6A8C-4607-B750-DD40651ADBA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3AC23-C4AF-4780-AB04-2198BAA004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00200" y="380880"/>
            <a:ext cx="739152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Bradley Hand ITC"/>
              </a:rPr>
              <a:t>What is sustainability?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2209680"/>
            <a:ext cx="5867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radley Hand ITC"/>
              </a:rPr>
              <a:t>Intergenerational Economic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radley Hand ITC"/>
              </a:rPr>
              <a:t>Environmental and Socia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Bradley Hand ITC"/>
              </a:rPr>
              <a:t>Equit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8D50-A6CA-4F41-90D3-97BE48D4EB30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72C059-30C5-4990-9B0C-F4E0D6E6FF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819520" y="182844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adley Hand ITC"/>
              </a:rPr>
              <a:t>The world we have created today as a result of our thinking thus far has problems which can not be solved by thinking the way we thought when we created them.…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radley Hand ITC"/>
              </a:rPr>
              <a:t>Albert Eins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1295280"/>
          <a:ext cx="933480" cy="8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33480" cy="8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1295280" y="2590920"/>
          <a:ext cx="933480" cy="89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590920"/>
                    <a:ext cx="93348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1676520" y="4114800"/>
          <a:ext cx="933480" cy="89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14800"/>
                    <a:ext cx="93348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1981080" y="5791320"/>
          <a:ext cx="933480" cy="89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5791320"/>
                    <a:ext cx="93348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967F39F-0167-43B1-9735-7DD1DA2F01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819520" y="182844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adley Hand ITC"/>
              </a:rPr>
              <a:t>"Some people see the world as it is and ask "Why?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adley Hand ITC"/>
              </a:rPr>
              <a:t>I see the world as it can be and ask "Why not?"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radley Hand ITC"/>
              </a:rPr>
              <a:t>John F. Kenne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1295280"/>
          <a:ext cx="933480" cy="8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33480" cy="8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1295280" y="2590920"/>
          <a:ext cx="933480" cy="89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590920"/>
                    <a:ext cx="93348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676520" y="4114800"/>
          <a:ext cx="933480" cy="89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14800"/>
                    <a:ext cx="93348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1981080" y="5791320"/>
          <a:ext cx="933480" cy="89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5791320"/>
                    <a:ext cx="93348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D24D662-8685-41C5-9B8B-71F9B0813A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09680" y="304920"/>
            <a:ext cx="639936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Bradley Hand ITC"/>
              </a:rPr>
              <a:t>Overall Course Objective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1981080"/>
            <a:ext cx="6553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radley Hand ITC"/>
              </a:rPr>
              <a:t>To Introduce markets, investments, reporting techniques and analytical methods used by entities (governments, firms and individuals) to support business decisions that are  sustainab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95D0-E498-4F63-A88F-AE94C6A243CB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814EA-81C8-4CC7-B7AC-C970DA68D0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09680" y="304920"/>
            <a:ext cx="639936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Bradley Hand ITC"/>
              </a:rPr>
              <a:t>Our process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1981080"/>
            <a:ext cx="6553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radley Hand ITC"/>
              </a:rPr>
              <a:t>“</a:t>
            </a:r>
            <a:r>
              <a:rPr b="1" lang="en-US" sz="4800" spc="-1" strike="noStrike">
                <a:solidFill>
                  <a:srgbClr val="ffffff"/>
                </a:solidFill>
                <a:latin typeface="Bradley Hand ITC"/>
              </a:rPr>
              <a:t>Tell me and I will forget, show me and I might remember.  But INVOLVE me and I will understand.”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99F3-25FD-4AE1-9A91-D23E4AD00025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1E3376-BB82-4DEC-8828-3FF83855D5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Bradley Hand ITC"/>
              </a:rPr>
              <a:t>18 Modul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radley Hand ITC"/>
              </a:rPr>
              <a:t>Disclosures and Reporting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radley Hand ITC"/>
              </a:rPr>
              <a:t>Decision-making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radley Hand ITC"/>
              </a:rPr>
              <a:t>Investment Analysi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radley Hand ITC"/>
              </a:rPr>
              <a:t>Market Mechanism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radley Hand ITC"/>
              </a:rPr>
              <a:t>Other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4B4C-7501-4E33-9F8A-224AF0D34D8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27960-3B07-474C-BE45-2F7F2C254F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Bradley Hand ITC"/>
              </a:rPr>
              <a:t>External Financial reporting of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2840" y="1295280"/>
            <a:ext cx="60958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825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radley Hand ITC"/>
              </a:rPr>
              <a:t>Environmental Liabiliti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Issue: Recording probable and estimable lia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Teaching tool:  Experience the continuum of events at Purity Oil superfund site that led to Chevron’s reporting of a 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825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radley Hand ITC"/>
              </a:rPr>
              <a:t>Sustainable Business Practices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Issue:  Recording and Reporting Goodw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Teaching tool:  It appears that the assets that really count are the ones that accountants can’t count--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0D3E-DD14-4F0E-A061-97B34E947A3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D9A24F-E14F-46A8-9A0C-5723F93C7745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819160" y="159984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Issu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Comparison to required financial repor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GRI voluntary guidelin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Define the scop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Where is sustainable reporting headed in the next 5 year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Will (parts of) sustainability reporting be included in required external reporting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76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adley Hand ITC"/>
              </a:rPr>
              <a:t>When sustainability is part of the strategic pla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Teaching tool:  Corporate sustainability reports i.e., FedEx/Kinko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Fly under the rad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adley Hand ITC"/>
              </a:rPr>
              <a:t>Obtaining upper management sup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Bradley Hand ITC"/>
              </a:rPr>
              <a:t>Sustainability Reporting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F463-DDFC-473C-A71E-32A4CCB41CF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10265-DAFF-493C-B6C5-D3BB56AB7D65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Bradley Hand ITC"/>
              </a:rPr>
              <a:t>External reporting of Green House Gas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Issue:  GHG Accounting and Reporting Stand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Inventory GH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Set GHG 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Reduce GH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Set Bound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Organizational bound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Operational bound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radley Hand ITC"/>
              </a:rPr>
              <a:t>Teaching Tool: Stanford GHG Prim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C653-C7CB-42CB-842F-6236BB02D47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6D5EA7-A4FD-47FC-97ED-2B725C2779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Bradley Hand ITC"/>
              </a:rPr>
              <a:t>Sustainability Reporting Assuranc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825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radley Hand ITC"/>
              </a:rPr>
              <a:t>Issues: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74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radley Hand ITC"/>
              </a:rPr>
              <a:t>Who is requiring assurance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74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radley Hand ITC"/>
              </a:rPr>
              <a:t>Assurance of 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The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The underlying management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Govern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9758-23FB-4799-B0B2-E7DD6C2C120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F42C8B-BF93-4F05-B337-0AAF3DC776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te Lancaster</cp:lastModifiedBy>
  <dcterms:modified xsi:type="dcterms:W3CDTF">2006-10-05T07:48:51Z</dcterms:modified>
  <cp:revision>87</cp:revision>
  <dc:subject/>
  <dc:title>PowerPoint Presentation</dc:title>
</cp:coreProperties>
</file>